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4018-34A4-4EF3-8F3D-B7FBDF34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111D-52B8-4949-A840-CDFF472A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5F46-C6DF-467F-A944-7879E674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B918-A638-4300-A5EE-05EB6781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8BD6-8F25-4854-B478-4D90C8B7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A58-3C9B-444B-AF01-DA362A3B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3A38-0E17-4762-BC16-ED89896E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648B-50E6-4970-A813-9D171C2F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3A1-B219-41FA-8582-467D16CC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ADCD-C33B-47A8-BBF4-76DE9B70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5CE9-D905-49EE-929F-C81489DB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176A-E4E3-4D0D-BA81-4EB2B143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02F7-E488-4B8D-BAD4-CD638EF96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Go in peac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refreshed and renew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 the eternal love of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3:08:04Z</dcterms:created>
  <dc:creator>Anon Anon</dc:creator>
  <dc:description/>
  <dc:language>en-US</dc:language>
  <cp:lastModifiedBy>Anon Anon</cp:lastModifiedBy>
  <dcterms:modified xsi:type="dcterms:W3CDTF">2005-08-09T05:27:48Z</dcterms:modified>
  <cp:revision>7</cp:revision>
  <dc:subject/>
  <dc:title>PowerPoint Presentation</dc:title>
</cp:coreProperties>
</file>